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97BF5-3BB8-433C-9D90-8CDB53A6B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284D3-9645-4B26-A53B-1888F420A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AC723-26B3-47DF-9106-A723E9593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ECD74-2867-47EA-9C31-7029C1C6D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61B4E-C94C-4E9A-A5E7-B452BE310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41615-F4A6-4033-8515-5815622D2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1E8BA-421F-43FF-BC92-1A59C290C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C1ECD-FA2A-46CA-BB7F-22D1097E4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C343A-9F9C-46B0-BA81-65857B239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A5490-F1D3-4C25-B1BB-25E2D9E9C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FEF11-55AC-45C1-A4CC-5FDDDD47E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A1033-F32B-4A43-983E-36B22F8A0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5CD25-C770-41A8-9509-CEE1AD3A98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278 Tak príjemne je, Bo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e môj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323064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8 Tak príjemne je, Bože môj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  <a:ea typeface="Arial"/>
              </a:rPr>
              <a:t>Tak príjemne je, Bože môj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  <a:ea typeface="Arial"/>
              </a:rPr>
              <a:t>tam, kde ty prebývaš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kde, Hospodine zástupov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sám svoje miesto máš.</a:t>
            </a: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Za prednosť vždy si pokladám byť blízko teba len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kde z večnej spásy prameňa piť vodu živú smie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Aj vtáča vie si miesto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nájsť pri tvojom oltári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kde milos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ť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 tvoja pokojo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nás hojne obdarí.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Na všetko tvorstvo pamätáš, nad nami hojne bdieš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kto s láskou k tebe blíži sa, rád si ho privinieš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Deň v tvojich sieňach najmilší zo všetkých pre mňa j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tam z tvojho Slova vzácneho sa srdce raduje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iro Danihel</cp:lastModifiedBy>
  <dcterms:modified xsi:type="dcterms:W3CDTF">2001-07-07T17:42:31Z</dcterms:modified>
  <cp:revision>22</cp:revision>
  <dc:subject/>
  <dc:title>Je veľký náš Pán, on slávy je Kráľ Nech do všetkých strán  spev vrúcnych znie chvál.</dc:title>
</cp:coreProperties>
</file>